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EC58D-ADF8-4996-8319-6EB5F04C3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91924-4D12-42D4-9CA5-94D6A811C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6168B-F03D-4E95-A81B-CDDC9D8A0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F7E34-61F9-4F4D-98CE-AC658577D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A3515-FE29-48F2-B95E-135ED0ACE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D37F5-7875-45EE-B785-B8AD44D5D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D0C14-85D0-4333-AB38-EEFA3CE10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99838-0C4C-4E26-B800-19D624AE8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0FD85-F5DA-4C2E-BA0D-45D9783D0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D1AAE-3FA1-4BBF-AF61-EC0D8B60D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6FF31-3112-4CAC-8FF4-0625FF16E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6E431-0F58-4834-99BA-5A0930145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BBE7C-A507-4323-A59E-83C0B4B600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"/>
              </a:rPr>
              <a:t>Pet Care Tip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42720" y="2133360"/>
            <a:ext cx="4228920" cy="60339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3" descr="C:\Users\dwilliams2\AppData\Local\Microsoft\Windows\Temporary Internet Files\Content.IE5\6WO1AC7T\MC900438046[1].png"/>
          <p:cNvPicPr/>
          <p:nvPr/>
        </p:nvPicPr>
        <p:blipFill>
          <a:blip r:embed="rId2"/>
          <a:stretch/>
        </p:blipFill>
        <p:spPr>
          <a:xfrm>
            <a:off x="4952880" y="1727280"/>
            <a:ext cx="1662120" cy="18111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C:\Users\dwilliams2\AppData\Local\Microsoft\Windows\Temporary Internet Files\Content.IE5\6WO1AC7T\MC900232945[1].wmf"/>
          <p:cNvPicPr/>
          <p:nvPr/>
        </p:nvPicPr>
        <p:blipFill>
          <a:blip r:embed="rId3"/>
          <a:stretch/>
        </p:blipFill>
        <p:spPr>
          <a:xfrm>
            <a:off x="4952880" y="7518240"/>
            <a:ext cx="1690920" cy="14925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C:\Users\dwilliams2\AppData\Local\Microsoft\Windows\Temporary Internet Files\Content.IE5\2DC45C48\MP900427744[1].jpg"/>
          <p:cNvPicPr/>
          <p:nvPr/>
        </p:nvPicPr>
        <p:blipFill>
          <a:blip r:embed="rId4"/>
          <a:stretch/>
        </p:blipFill>
        <p:spPr>
          <a:xfrm>
            <a:off x="5181480" y="5892840"/>
            <a:ext cx="1424160" cy="17272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C:\Users\dwilliams2\AppData\Local\Microsoft\Windows\Temporary Internet Files\Content.IE5\ES5BI6NL\MP900438804[1].jpg"/>
          <p:cNvPicPr/>
          <p:nvPr/>
        </p:nvPicPr>
        <p:blipFill>
          <a:blip r:embed="rId5"/>
          <a:stretch/>
        </p:blipFill>
        <p:spPr>
          <a:xfrm>
            <a:off x="5105520" y="4927680"/>
            <a:ext cx="1495440" cy="13208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8" descr="C:\Users\dwilliams2\AppData\Local\Microsoft\Windows\Temporary Internet Files\Content.IE5\WGVGCCAF\MP900427655[1].jpg"/>
          <p:cNvPicPr/>
          <p:nvPr/>
        </p:nvPicPr>
        <p:blipFill>
          <a:blip r:embed="rId6"/>
          <a:stretch/>
        </p:blipFill>
        <p:spPr>
          <a:xfrm>
            <a:off x="4952880" y="3759120"/>
            <a:ext cx="1482840" cy="9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05T12:58:55Z</dcterms:created>
  <dc:creator>Deborah Williams</dc:creator>
  <dc:description/>
  <dc:language>en-US</dc:language>
  <cp:lastModifiedBy>Deborah Williams</cp:lastModifiedBy>
  <dcterms:modified xsi:type="dcterms:W3CDTF">2012-11-05T13:13:38Z</dcterms:modified>
  <cp:revision>2</cp:revision>
  <dc:subject/>
  <dc:title>Pet Care Tips</dc:title>
</cp:coreProperties>
</file>